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4.gif" ContentType="image/gif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9.wmf" ContentType="image/x-wmf"/>
  <Override PartName="/ppt/media/image11.gif" ContentType="image/gi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79BD-4245-4EEC-9EE9-53BC770B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7F4-7C28-4E45-953D-4EBDCA91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68F-9AB6-45E0-B5EB-7DA5E18E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DDB-24C0-4A56-A3B9-90EF6FDE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AFF-2F94-41EC-970C-25D47BAF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241-9077-4A74-B0D5-B3E6B08F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C897-C2DF-4C7D-A1DA-91BEDFCE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2DC-1FF6-409F-8DAB-C08D676D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0B2-D48C-40CC-80A9-1F1572C0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36BF-F549-4179-80C0-EFD61725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70E-97C8-48C7-A240-2A453B74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314D-EB63-4DDB-A979-35BE6309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EFAD-010F-47B2-AD65-7DCF840A1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5.xml"/><Relationship Id="rId3" Type="http://schemas.openxmlformats.org/officeDocument/2006/relationships/image" Target="../media/image8.wmf"/><Relationship Id="rId4" Type="http://schemas.openxmlformats.org/officeDocument/2006/relationships/slide" Target="slide6.xml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slide" Target="slide4.xml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8.wmf"/><Relationship Id="rId3" Type="http://schemas.openxmlformats.org/officeDocument/2006/relationships/slide" Target="slide9.xml"/><Relationship Id="rId4" Type="http://schemas.openxmlformats.org/officeDocument/2006/relationships/image" Target="../media/image8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7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Pumpkins, Pumpkins, Pumpk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560" y="556272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 Mrs. Green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MMj02839210000[1]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297180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48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ave A Great Da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MMj02839220000[1]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38098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ts of a Pumpk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09320" y="17521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MCj01999290000[1]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221148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191480" y="434340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f/V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MCj03317870000[1]" descr=""/>
          <p:cNvPicPr/>
          <p:nvPr/>
        </p:nvPicPr>
        <p:blipFill>
          <a:blip r:embed="rId2"/>
          <a:stretch/>
        </p:blipFill>
        <p:spPr>
          <a:xfrm>
            <a:off x="5334120" y="4495680"/>
            <a:ext cx="2438280" cy="1898640"/>
          </a:xfrm>
          <a:prstGeom prst="rect">
            <a:avLst/>
          </a:prstGeom>
          <a:ln w="0">
            <a:noFill/>
          </a:ln>
        </p:spPr>
      </p:pic>
      <p:pic>
        <p:nvPicPr>
          <p:cNvPr id="49" name="MCj00788210000[1]" descr=""/>
          <p:cNvPicPr/>
          <p:nvPr/>
        </p:nvPicPr>
        <p:blipFill>
          <a:blip r:embed="rId3"/>
          <a:stretch/>
        </p:blipFill>
        <p:spPr>
          <a:xfrm>
            <a:off x="304920" y="3683160"/>
            <a:ext cx="4495680" cy="280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05320" y="220968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495680" y="487692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ts of a Pumpk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120" y="4594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MPj02020440000[1]" descr=""/>
          <p:cNvPicPr/>
          <p:nvPr/>
        </p:nvPicPr>
        <p:blipFill>
          <a:blip r:embed="rId1"/>
          <a:stretch/>
        </p:blipFill>
        <p:spPr>
          <a:xfrm>
            <a:off x="4343400" y="4114800"/>
            <a:ext cx="3270240" cy="218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3048120" y="480024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52120" y="179532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MCj03318270000[1]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1812960" cy="1714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V="1">
            <a:off x="4191120" y="205704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tchup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part is the st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MCFD00877_0000[1]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581280" cy="3181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43600" y="20574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809880" y="480024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MCj01975820000[1]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971800" y="4724280"/>
            <a:ext cx="851040" cy="862200"/>
          </a:xfrm>
          <a:prstGeom prst="rect">
            <a:avLst/>
          </a:prstGeom>
          <a:ln w="0">
            <a:noFill/>
          </a:ln>
        </p:spPr>
      </p:pic>
      <p:pic>
        <p:nvPicPr>
          <p:cNvPr id="65" name="MCj01975820000[1]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81480" y="1219320"/>
            <a:ext cx="752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tchup"/>
              </a:rPr>
              <a:t>Sorr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j0305493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067280" cy="3340080"/>
          </a:xfrm>
          <a:prstGeom prst="rect">
            <a:avLst/>
          </a:prstGeom>
          <a:ln w="0">
            <a:noFill/>
          </a:ln>
        </p:spPr>
      </p:pic>
      <p:pic>
        <p:nvPicPr>
          <p:cNvPr id="68" name="BD10253_" descr=""/>
          <p:cNvPicPr/>
          <p:nvPr/>
        </p:nvPicPr>
        <p:blipFill>
          <a:blip r:embed="rId2"/>
          <a:stretch/>
        </p:blipFill>
        <p:spPr>
          <a:xfrm>
            <a:off x="6595920" y="2620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69" name="MMj03956970000[1]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4952880"/>
            <a:ext cx="139068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ckoo"/>
              </a:rPr>
              <a:t>Good Job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MMj02952270000[1]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85776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tchup"/>
              </a:rPr>
              <a:t>Your Tu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part is the lea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MCj01975820000[1]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1143000"/>
            <a:ext cx="135432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MCj01975820000[1]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09680" y="4114800"/>
            <a:ext cx="1303560" cy="1319040"/>
          </a:xfrm>
          <a:prstGeom prst="rect">
            <a:avLst/>
          </a:prstGeom>
          <a:ln w="0">
            <a:noFill/>
          </a:ln>
        </p:spPr>
      </p:pic>
      <p:pic>
        <p:nvPicPr>
          <p:cNvPr id="76" name="MCj02510100000[1]" descr=""/>
          <p:cNvPicPr/>
          <p:nvPr/>
        </p:nvPicPr>
        <p:blipFill>
          <a:blip r:embed="rId5"/>
          <a:stretch/>
        </p:blipFill>
        <p:spPr>
          <a:xfrm>
            <a:off x="3809880" y="2895480"/>
            <a:ext cx="3962520" cy="2633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3429000" y="487656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866920" y="1905120"/>
            <a:ext cx="83844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tchup"/>
              </a:rPr>
              <a:t>Sorr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j0305493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067280" cy="3340080"/>
          </a:xfrm>
          <a:prstGeom prst="rect">
            <a:avLst/>
          </a:prstGeom>
          <a:ln w="0">
            <a:noFill/>
          </a:ln>
        </p:spPr>
      </p:pic>
      <p:pic>
        <p:nvPicPr>
          <p:cNvPr id="81" name="MMj03956970000[1]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62520" y="4952880"/>
            <a:ext cx="139068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ckoo"/>
              </a:rPr>
              <a:t>Good Job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MMj02952270000[1]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857760" cy="295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89360" y="5105520"/>
            <a:ext cx="52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 are aweso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0:27:20Z</dcterms:created>
  <dc:creator>Gateway</dc:creator>
  <dc:description/>
  <dc:language>en-US</dc:language>
  <cp:lastModifiedBy>Becky Hicks</cp:lastModifiedBy>
  <dcterms:modified xsi:type="dcterms:W3CDTF">2005-03-24T14:26:02Z</dcterms:modified>
  <cp:revision>3</cp:revision>
  <dc:subject/>
  <dc:title>Pumpkins, Pumpkins, Pumpkins</dc:title>
</cp:coreProperties>
</file>